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F23-C203-4ADE-BCA3-3D99EB59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334-5BB8-42FB-BECB-8F6B2CD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4AA-024A-4CC3-8490-E5D52748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EB2-8B84-4BB1-A342-000B6466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ACA-AA0C-48F5-8791-EA361B1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595-9691-4150-A927-38700B0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25D-5DEB-4740-B770-8288B3A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3B4-CAF6-4A66-8D5A-100B6D2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835-70F8-4FC7-A92E-2A0E57B1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F3D-D787-440F-B632-99DF54F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8D6-2DEE-4B96-BD64-861A9E8F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DC7-1C38-4B61-9FF9-1988D5FD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768-5763-4C45-B856-7885EA2B4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52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01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13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13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31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69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4:21:57Z</dcterms:created>
  <dc:creator>L</dc:creator>
  <dc:description/>
  <dc:language>en-US</dc:language>
  <cp:lastModifiedBy>L</cp:lastModifiedBy>
  <dcterms:modified xsi:type="dcterms:W3CDTF">2013-09-24T17:06:01Z</dcterms:modified>
  <cp:revision>3</cp:revision>
  <dc:subject/>
  <dc:title>Презентация PowerPoint</dc:title>
</cp:coreProperties>
</file>